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BE68-2975-4916-BC95-878687A2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439-6A7C-4752-A81E-1C1484BC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35E7-8FFB-4DA2-B127-3DCC45B4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85E3-A7BD-4EB4-AB5D-AF751CDF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1805-7157-4D36-9A55-F39E50DFA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FA18-34AA-488B-B414-9AFF8730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AE9C-1959-4BB5-8163-561202DDB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649-6E32-46F2-B1C2-E8E463B3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4C00-7B8D-4179-AB9A-3563218F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7975-C12D-45A4-B92B-79B54BFE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8B4-CE15-4632-9A8C-2DF9D05D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44E-10DC-4C99-B271-0F9261C3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1C49-7FD4-4A70-8150-6786642F8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579D-0367-4D62-B581-60B5765D4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A37A-A44B-4546-88D2-0DFEE995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405-2B1E-41B2-B893-6D1720359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ADD8-E512-4E16-97BB-9090AE98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E39E-7338-401A-A7D8-BF1B043A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58E-B450-4217-8AD3-F9CA00F1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C376-6ADF-44AB-85DC-6EAC069B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805-D631-498E-8044-532B57C6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B4B-24FD-4E06-B786-A8FDF9529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12D-A0C9-445A-8379-4574A7DF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5F1-2E21-4463-B7B0-257D5AA9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BC6-4F88-4AFC-B705-59F2EDF7B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A0E-C5F1-4E5A-AE43-E3715543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D43C-CB6D-4021-9690-5ED8A734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7EAF-D4FC-4CF1-8FB2-086A070BD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B66-CC3F-471F-B8AC-1EBA04F9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5F0-6088-44E4-8F89-C959D353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130-935A-494B-AE43-43DD65AE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55E-3EF6-4C44-ACB5-264B4FD9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462-B7B4-4D65-A5F3-88BED811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403-B0E2-4730-9D64-5B95B343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9EF6-603D-4CE9-A511-AB91706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4A8E-43DC-4F7B-A56A-01A0450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EAA-37A9-42E0-848E-7FA52918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F89A-89DF-41E9-8781-3326727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3B6-5D0F-418F-BCA3-873E3AB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217-6C7D-4867-9C5E-A379003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C134-44BE-4AD8-AFC1-7ED9653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ED04-0FE0-4C28-A674-3A1FEA9F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099-CE81-4D92-A44F-C048095F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FF02-4A5C-442D-84AF-6B1B4C1C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66D-70D8-4D46-975E-777C1A4F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C03-42FA-47E7-84A2-BF6A860E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97D-84E8-4647-8F2B-80C2541B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6ED-B2A5-4E8D-B8B3-723D962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714-6E61-470D-90D2-B85AFC1A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E0C-5633-40FE-9677-76573A6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253-5658-44EB-BF67-4E6D5F7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FC0-F600-4D9A-9849-42512FF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5DD-0B1D-4AB4-8C4A-19C3EDA8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EA6-7A89-4EFD-B9C1-0D37062E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urriculum Map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327480"/>
            <a:ext cx="60325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44792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MS Reference Sans Serif"/>
              </a:rPr>
              <a:t>THE KEY IS TO SPEND LESS TIME ON INEFFICENT MEETINGS AND CLASSROOM TIME, AND PUT MORE ENERGY INTO TEACHING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SK YOURSELF, AM I TEACHING REPETITIVE SUBJECT MATTER THAT HAS ALREADY BEEN COVERED AND THE STUDENTS ARE BURNED OU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M I SPENDING VALUABLE TIME ON A SUBJECT ASSUMING THAT A STUDENT HAS ALREADY BEEN TAUGHT A CONCEPT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UNAWARE THAT THERE IS A GA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DO I MAKE ACCUSATIONS ABOUT WHY “JOHNNY CAN’T READ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280" y="914400"/>
            <a:ext cx="885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“</a:t>
            </a: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WHEN INFORMATION IS ON THE TABLE 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THE COMPUTER, PEOPLE TEND TO ATTAC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THE PROBLEM.  WHEN THERE ISN’T GOOD INFORMATION, THEY TEND TO ATTACK EACH OTHER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MS Reference Sans Serif"/>
              </a:rPr>
              <a:t>--DR. HEIDI HAYES JACOB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CURRICULUM MAPPING REQUIRES A  STAFF TO BE ABLE TO COMMUNICATE TO PROVIDE CONSISTENCY IN THE EDUCATIONAL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380880" y="91440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703dff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PARING FOR CURRICULUM MAPPING</a:t>
            </a:r>
            <a:endParaRPr b="0" lang="en-US" sz="3200" spc="1" strike="noStrike">
              <a:ln cap="sq" w="12600">
                <a:solidFill>
                  <a:srgbClr val="703dff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12760" y="2190600"/>
            <a:ext cx="870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HAVE A SMALL LEADERSHIP TEAM OF TEACHERS AND AT LEAST ONE ADMINISTRA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ADVANCE SCOUTING 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INITIAL RESEARCH AND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VISIT OTHER SCHOOLS, CONFERENCES AND READ THE LITERA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CONT’D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04920" y="1219320"/>
            <a:ext cx="8626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LOOK 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READINESS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EFFECTIVE WAY TO INTRODUCE MAPP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FACULTY PERCEPTION OF KID’S NEED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pe01561_"/>
          <p:cNvPicPr/>
          <p:nvPr/>
        </p:nvPicPr>
        <p:blipFill>
          <a:blip r:embed="rId1"/>
          <a:stretch/>
        </p:blipFill>
        <p:spPr>
          <a:xfrm>
            <a:off x="4648320" y="380880"/>
            <a:ext cx="4114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380880" y="68580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703dff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Y CURRICULUM MAPPING?</a:t>
            </a:r>
            <a:endParaRPr b="0" i="1" lang="en-US" sz="1800" spc="1" strike="noStrike">
              <a:ln cap="sq" w="9360">
                <a:solidFill>
                  <a:srgbClr val="703dff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04920" y="1752480"/>
            <a:ext cx="8321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ALIGNS CURRICULA TO STANDARDS AND ASSESS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BUILDS STAFF CAPACITY AND PROFESSIONAL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DEVELOPS REALATIONSHIPS AND COMMUNICATION BETWEEN STAKEHOLD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USES RESOURCES EFFECTIVE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hat is Possible with Curriculum Mapping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Tea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a workable timeline for planning the curriculum     that is flexible and can easily be revis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how and when the curriculum will be taught without coping with bureaucratic timeli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aborate with other grade-level teachers 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ning and coordinating units of study and activit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s new teacher feel more confident knowing they    are in line with more experienced teacher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with the media staff ensuring that materials are ready (or ordered) before han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ing maps helps teachers keep abreast of new knowledge, new books, ideas, technology, and breakthrough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teachers the opportunity to reflect on what is being taught, the way they are teaching, and make adjustments to eliminate probl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s reveal not only content repetitions but also skill repetitio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viewing maps non-core classes can articulate with core curriculu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s communication between teac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42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r Stud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8088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s moving through the grade levels build on previous year’s experi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s students have a more meaningful educational experience because learning is plan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repetition of content and skil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which can be boring and turn students of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to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For Par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s are aware of what their child is working on in school and ca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for the start of a new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 students study for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more involved in sch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For Schoo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community, parent, and local interest in the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sures that teachers cover required curriculu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what is really being tau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s as a monitoring device to prove compliance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with federal, state, district and school standard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iculum maps can help in budgeting 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planning the school ye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test sco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914400" y="609480"/>
            <a:ext cx="3276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RRICULUM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PPING?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3880" y="3048120"/>
            <a:ext cx="809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TOOL FOR COLLECTING A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WHAT IS ACTUALLY BEING TAUGHT I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RO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ENTER ON A MAP THE KE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, SKILLS, AND ASSESSM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Y ARE TARGE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TIME ACTUALLY SPENT TEACHING A PARTICULAR SUB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pe01561_"/>
          <p:cNvPicPr/>
          <p:nvPr/>
        </p:nvPicPr>
        <p:blipFill>
          <a:blip r:embed="rId1"/>
          <a:stretch/>
        </p:blipFill>
        <p:spPr>
          <a:xfrm>
            <a:off x="4343400" y="0"/>
            <a:ext cx="4343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or the Distri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sters smoother transitions for students as they move through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s for a consistent district wide curriculum for all  grades, promoting equality between schoo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What are the benefits of Curriculum Mapp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gnment of curriculum to standards and assess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ity of instr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on task ori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ous improvement cy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ship and consensus buil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 are cl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borative sharing and adaptations for instructional effective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5338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hematic Curriculu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around a central concept, idea, or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rporate interdisciplinary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a variety of learning strategies and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e from general to more specific as concepts and skills are mastered by the stu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he Value of Thematic Curriculu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ualized learning exper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s to the work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:  Implementation can be accomplished through courses, teams, grades or entir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-depth exposure to broader fields of inte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collaboration in planning for interdisciplinary tea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53352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Value continued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d school climate through consensus building and sha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cuses on industry or fields within the workplace and places an emphasis on problem-solving, communications, math, science, and behavioral sc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ying premise is to develop skills that equate a school-to-work philosoph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22896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s work collaboratively to produce meaningful units of study that develop interest, thinking skills, and allow for multiple learning styles within the class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ningful activities result in outcomes with practical applications to the real world and do not stop at the classroom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even Phases of Curriculum Mapp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Read-throug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-Group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Group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points that can be revised immediat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points requiring long-term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cy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5" descr="j0335112"/>
          <p:cNvPicPr/>
          <p:nvPr/>
        </p:nvPicPr>
        <p:blipFill>
          <a:blip r:embed="rId1"/>
          <a:stretch/>
        </p:blipFill>
        <p:spPr>
          <a:xfrm>
            <a:off x="990720" y="2209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457200" y="1066680"/>
            <a:ext cx="7620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RRICULUM MAPP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Picture 3" descr="bd06663_"/>
          <p:cNvPicPr/>
          <p:nvPr/>
        </p:nvPicPr>
        <p:blipFill>
          <a:blip r:embed="rId1"/>
          <a:stretch/>
        </p:blipFill>
        <p:spPr>
          <a:xfrm>
            <a:off x="2819520" y="2133720"/>
            <a:ext cx="312408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4"/>
          <p:cNvSpPr txBox="1"/>
          <p:nvPr/>
        </p:nvSpPr>
        <p:spPr>
          <a:xfrm>
            <a:off x="533520" y="4800600"/>
            <a:ext cx="792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DING IN THE RIGHT DIRE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28600" y="68580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703dff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Y IS MAPPING IMPORTANT?</a:t>
            </a:r>
            <a:endParaRPr b="0" lang="en-US" sz="1800" spc="1" strike="noStrike">
              <a:ln w="12600">
                <a:solidFill>
                  <a:srgbClr val="703dff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2209680"/>
            <a:ext cx="8610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MAPS INVITE ALL STAKEHOLDERS WHO DEAL WITH CURRICULUM CONCERNS TO ENTER INTO CURRICULUM ANALYSI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MAPS ARE A FRAMEWORK FOR CURRICULUM DECISION MAKING AND A SPRINGBOARD FOR QUESTIONS ABOUT THE NATURE OF THE PURPOSES OF SCHOO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BY RAISING QUESTIONS, WE ENGAGE IN IDEAS AND NOT JUST PRESENT TH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304920"/>
            <a:ext cx="8534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dff"/>
                </a:solidFill>
                <a:latin typeface="MS Reference Sans Serif"/>
              </a:rPr>
              <a:t>THE PURPOSE OF MAPPING ISN’T JUST TO HAVE THIS INFORMATION, BUT TO USE IT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ECHNOLOGY HAS MADE IT POSSIBLE TO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ALTER, REVISE,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SHARE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INFORMATION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SCHOOL SI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APPING PRESENTS A CRITICAL OPPORTUNITY FOR TEACHERS TO MAKE ADJUSTMENTS IN THEIR TEACHING BASED ON THE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PERFORMANCE LEVEL OF STUDENTS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IT DEALS WITH BOTH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VERTICAL AND HORIZONTAL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OPPORTUNITIES FOR TEACHERS TO COLLECTIVELY TAKE A LOOK AT THE OPERATIONAL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HE MAPPING DATABASE ACTUALLY BECOMES A DATABASE FOR AUTHENTIC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EXAMINATION OF A CHILD’S EXPERIE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K-1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89080" y="914400"/>
            <a:ext cx="885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CURRICULUM MAPPING IS IMPORTANT SO THAT TEACHERS HAVE A BETTER IDEA OF WHAT’S G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ON IN THEIR OWN CLASSROOMS AS WELL AS THEIR COLLEAGUES’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BY BEING ABLE TO SEE WHERE THEIR CURRENT STUDENTS WILL BE HEADED AND WHERE THEIR POTENTIAL STUDENTS ARE COMING FROM, THE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WILL BE ABLE TO DEVELOP A CURRICULUM MOST APPLICABLE</a:t>
            </a: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AND EFFECTIVE FOR</a:t>
            </a: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</a:rPr>
              <a:t>THEIR STUDENTS</a:t>
            </a: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THIS WILL PROVIDE A MORE UNIFORM AND FLUID EDUCATIONAL EXPERI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83808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IT TAKES A VILLAGE.....”</a:t>
            </a:r>
            <a:endParaRPr b="0" lang="en-US" sz="32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1" name="Picture 3" descr="pe03254_"/>
          <p:cNvPicPr/>
          <p:nvPr/>
        </p:nvPicPr>
        <p:blipFill>
          <a:blip r:embed="rId1"/>
          <a:stretch/>
        </p:blipFill>
        <p:spPr>
          <a:xfrm>
            <a:off x="3429000" y="1981080"/>
            <a:ext cx="2133720" cy="1295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365040" y="336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80880" y="34290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ONE OF THE BIGGEST PROBLEMS IN AMERICAN EDUCATION TODAY IS AN EXTRAORDINARY ISOLATION OF CLASSROOM TEACHERS.  </a:t>
            </a: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THEY DON’T KNOW WHAT IS GOING ON IN EACH OTHER’S CLASSROOM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09480" y="1123920"/>
            <a:ext cx="861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CURRICULUM MAPPING ISN’T ABOUT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SINGLE CLASSROO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IT IS ABOUT A CLUSTER OF CLASSROOM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THAT TEACH THE SAME STUD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Reference Sans Serif"/>
              </a:rPr>
              <a:t>ALL TEACHERS ARE INTERCONNECTED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IF YOU ARE A MATH TEACHER, YOU ARE A WRITING TEACHER.  IF YOU ARE A SCIENCE TEACHER, YOU ARE A READING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26"/>
          <p:cNvSpPr/>
          <p:nvPr/>
        </p:nvSpPr>
        <p:spPr>
          <a:xfrm>
            <a:off x="0" y="533520"/>
            <a:ext cx="855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 JUST DON’T HAVE TIME FOR THIS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THE FIRST YEAR OF MAPPING IS LABOR-INTENSI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BREAK DOWN THE PROCESS AND PROCEED GRADUALLY, BUT STEAD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IT MAY TAKE A YEAR OR TWO BEFORE ONE CAN REALLY GET A SCHOOL MOVING IN THE AREA OF CURRICULUM MAP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3:20:38Z</dcterms:created>
  <dc:creator>WINSTON SALEM FORSYTH COUNTY</dc:creator>
  <dc:description/>
  <dc:language>en-US</dc:language>
  <cp:lastModifiedBy>User</cp:lastModifiedBy>
  <cp:lastPrinted>2003-06-13T14:46:53Z</cp:lastPrinted>
  <dcterms:modified xsi:type="dcterms:W3CDTF">2012-08-22T18:17:24Z</dcterms:modified>
  <cp:revision>11</cp:revision>
  <dc:subject/>
  <dc:title>Staff Development Summer 2003</dc:title>
</cp:coreProperties>
</file>